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910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2804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74564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1636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8156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81560" indent="-53712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81560" indent="-53712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408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274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140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00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072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4960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16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39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88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0340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476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9922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368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368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368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280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712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9492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072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4960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16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39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6699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460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92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352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881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881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881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52280" y="1257480"/>
            <a:ext cx="8077320" cy="25398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8623440" y="939960"/>
            <a:ext cx="3886200" cy="31622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127080" y="3987720"/>
            <a:ext cx="4228920" cy="2671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4673520" y="4025880"/>
            <a:ext cx="4083120" cy="2781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8915400" y="4038480"/>
            <a:ext cx="3886200" cy="27687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139680" y="6878520"/>
            <a:ext cx="2324160" cy="2163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"/>
          <a:stretch/>
        </p:blipFill>
        <p:spPr>
          <a:xfrm>
            <a:off x="2616120" y="6880320"/>
            <a:ext cx="2273400" cy="25304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8"/>
          <a:stretch/>
        </p:blipFill>
        <p:spPr>
          <a:xfrm>
            <a:off x="5041800" y="6811920"/>
            <a:ext cx="2362320" cy="2687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7556400" y="6924600"/>
            <a:ext cx="2451240" cy="20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066680" y="3024360"/>
            <a:ext cx="2838600" cy="27302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089240" y="3060720"/>
            <a:ext cx="3252960" cy="295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7518240" y="3111480"/>
            <a:ext cx="5232600" cy="473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